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2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2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F84B-72A7-4DA9-9C4F-3B4F0EC7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23E-B567-4BCD-BA37-25AE84FC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EE6-BB2C-42E2-A769-5066BCFB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5CC3-82B9-46A0-BCE7-DF12E492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558-DFD5-4D7B-A50B-0CE959038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E3D8-506F-44C1-8288-40733F029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D37-6744-40DF-B5A5-8BEC11E4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ECF6-D9CB-4E42-A843-F351B4E2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3DD1-FC23-4724-92DA-E533E7993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BAB4-B4EF-40AE-AD37-09329A38C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481-0C7C-4EB9-9689-22F30EAD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7109-D6C0-47D9-A80C-C6C2ED47B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43AA-E9C9-4A09-9E41-31B83B07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F5A6-48CB-4F37-AB41-77B3381A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7429-587E-4DED-B677-7C47CD82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146-4D8E-42A3-B517-6E779428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7A0A-AA9A-4886-A16C-615BD5F9C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FF2-6FC7-4100-A810-AE03427B9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06DC-0DBC-4744-973D-E57EC183B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CCAC-7EB6-4660-81BC-4C3C66882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F753-701C-4D6D-ABBA-AC6D456214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35CED-2A8C-4CE6-A69A-45556954F7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EB134-AA63-4940-8045-C1786B1727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2DA76-41D3-424D-A304-D7DEA35C65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7E889-6337-420B-9CCC-6845700BED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AC99A-8F98-418D-A190-C02E72F0A9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D0142-FE22-43DA-835F-E533EC1D4D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4FA51-142E-48AC-AF4C-27848DBC88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00D1B-3B57-46E5-B818-D987A722BA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1083A-74A5-4586-8B6A-86D6B05BAE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0742D2-F3A9-4DAC-8396-D527FD7BC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2DC6-DC64-41B5-B099-46EC23FCA4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22D976-4CA4-4DC5-A329-0F5757166E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4EB96A-D921-4010-BF1B-62FE3CDE9C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20C1E-014B-4E7A-BBCE-CAB0132262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566EA-D318-40E2-B58D-DACA13F978A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02CE23-2C3C-4112-9FDC-4CD49C4D1B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062A7C-43C8-443B-8638-FC4ABC6712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59A8CC-C67D-4DF7-878C-2D800EFB89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C06BF-049F-4FF8-A38F-40F85289A3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540F5E-34F2-4BBC-AB6A-51F657D0AD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9E2AE9-E509-4B3D-AD83-81E317919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E10C-D67E-4754-A946-6D0A713A88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D8A7BF-A49D-4D1F-8317-AF5A164F26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0A862-DB0E-4231-872B-BC378FA3E1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8297-9BD2-4A0C-B3D6-E63CF8F24CE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6770-EBB7-44E6-97C2-22B5FA848DB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F89F-D1FB-4B73-926A-1C6C89C5052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1425E-8833-407E-BA0E-94E12BA0229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E7F1-4FA4-49AE-A6F2-A7CB4665449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3ABF8-CCD2-4D7E-B650-6E695D5D60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D8D0-51B5-4F59-8A4A-0E950A8C71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EDB8B-F731-4D50-A62A-BDC60DDEB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3EC4-3731-44C0-883B-22014F4D3E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1508-EA9A-484B-AAD5-7EFCA189B0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DAFF-97CE-4ECA-B8F8-96B11492F95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57E04F-2322-4048-BB3F-74EDC868C8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2C7D9-BE52-497D-B9A3-02EDA06E084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46DBD-09EB-4E13-BCB1-620E1BD7C8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D0C59-4FDC-4B02-BA63-714F8030A4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0895F-D822-4E34-A5FB-B1C3495558B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9EADA-5D73-4C5A-A33A-6CDCD2D2500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D1D5C4-1B69-4AD3-96A2-8E87584F3F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FDE2C9-BBA0-4CCA-80AC-46C85498099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D12188-5C38-494C-BF31-B66A8B5A65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D91DC-2022-435C-AF8E-9702BF5EE5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A2575-F87C-435D-AB7C-6537C69C66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9B882-3483-4471-8EB1-2E947ED72F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EEEA-43E0-411B-9BA3-43C02908B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EFE15-3E0B-4FAF-B595-D93A276580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4752-7CAF-48C9-A524-8948C1AABE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B5C00-1215-4A9D-96B0-8764842D72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72D5C-AF5E-4BFE-922F-AB8B1447E0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344DC-647D-4EFC-B5CB-D1ABAF61A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12A2-7984-4BD7-AC05-8722E8F1B2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91F9-4E02-4CE2-AA99-5C6787A9EB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91B0D-60F3-4223-9E27-7B81AE7D93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89997-F72B-476A-A1E0-7B9B4A85AD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1FB5-8131-4FB7-8E2D-FC44AD4669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9DF3-D17C-4CC9-97A5-F7DBA744EC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05161-AA41-473B-8D94-1C732FF3AB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6479F-D86A-4B1F-A08A-E53BD74515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87355-613C-4AB6-8D87-42B67B1024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BD9E9-000C-4E5B-A22B-4F79EF285C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34488-83A1-47F8-928D-C8CA3A746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3046-5543-4B8B-8279-BF0C9BAB00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AE490-2471-4F2F-B4AB-B2068A5A3B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AD980-271D-4872-9E28-E8E7F5F9F3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69971-B8E1-4944-A736-B90A58274F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AA19B-C041-4D1B-BC80-1E5B635303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535CB-4FF0-4433-8CCB-537B9D33CC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CF346-D06C-4A66-B257-0B064A7E92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06BE1-8916-43A2-AEE8-6914194D90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F1E79-52CD-45F5-A116-4E0CB52B10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B54B7-6412-4E79-A9BD-F7CDA45B02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8B26-7944-48B1-B8CD-D6B019C32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2DA2-E43E-4454-A406-9F0D6607EA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D6BA-CC10-4F5E-AF20-647FDD7327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0A47-1B98-4EE3-B04C-B5DD61E065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9AF0-B60F-4AFF-8B49-F3E2B964F3A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9049C-F00C-4F72-9BE1-46F0E5EF8E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B616-0FCB-453B-9B75-BB9823D92D1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AA35-7E73-4B92-B64B-0DD5280BF31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65FD-659E-485B-9549-39319613AE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B656-AB62-4361-9C4A-471596602D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7402-69BD-4A86-9729-3367734C70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5214-FB9A-4E54-AC80-C94639221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694A-2EE4-4D59-8A7B-45D1459D071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E90F-FBAD-487F-BD62-0F31840D4E6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99482-13C7-48A8-A2AD-A02928A28E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44620-511D-43B4-A1A4-CD81B638A8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A484E-7EF7-4065-9D93-256F973C04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817AF-9EB4-43F0-AEE2-5ACB9D6EEE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5BF5D-DDE3-4472-A5BC-055ED32C89A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8AB37-65DA-4C19-B4F5-EA7C8A5BDF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32C36-97C2-4BDB-8AD7-62DAAEFC83C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89B24-393A-46CA-A87F-637A938279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0AC6E-51A5-49EB-AF86-287E05E25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8F76-A218-4443-AD8C-7738A2246A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EA16D-F9F1-4AF7-8D6E-AF1B535E20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B501F-EF8E-402F-BB7B-E3466D38CC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E5A72-3D61-400C-B5D3-7CA972E79B2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85F4D-F575-4364-88B3-E0484C5921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5EE4B-F1E8-41E9-9C6E-098642F860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C090D-125B-4E64-ADCF-010A26185F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D4C49-C255-4BA9-8B15-2D95C075F7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0365E-0D06-4D1E-9B37-2D0AFF88BEA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EF518E-4485-45B9-AE99-9D50F82722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D03E2-1C2D-4115-BBD9-896CC40ED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B8A9-4F04-4CE6-B900-87D48E840C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C2F5C-0020-4B6F-91DD-D2F3F469EA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BD8E9F-9F0E-4890-BC4A-EE35B17470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EDEDC7-4749-4015-BC3F-0A6185599A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51D857-1A46-4B2A-A4CD-73D72B63A3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991B5-9F9A-4573-AABC-3857E7D0BF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B52B-7DA2-4ACA-9F32-5F9072F04CD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0F41-132F-4A61-B88E-273035AD4C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4890A-6D54-4CF4-845A-EED898774F1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CBEF-80FD-479D-ADB7-E88BDB5A2B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9704-3172-4848-99F4-99CACC2D5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65B2-451A-4FD0-936D-C1C440234A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93A6-10C9-4A7F-A9B7-4E29B78FA3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64EB-BD00-48C4-946B-912A643595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0CE3E-5FD5-41EE-A951-DF5922D6A3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317BA-186A-488B-AC02-4F230DD6C4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DD0E-A0B9-409F-9DE0-6F2BD8A7E4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C62AD-1D7A-4DC9-B136-6952A6E34B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F8A2-7BA7-44E7-B897-30CF2F63B8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CC459-0306-4326-A436-A54C0CC91B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720D0-162F-4BBC-8631-4E6116DA29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63FC9-C6C6-4A17-9E84-806053D5E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F5335D38-D1EE-4256-8164-4C33F793B44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8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9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34563D1B-3556-4BFA-92A1-C8190E6FF12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20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1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34ADA45A-AECB-430C-9103-56B1448CB45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2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3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3A1C7407-510D-4212-A2A6-0B4233AA4BB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2"/>
          <p:cNvSpPr/>
          <p:nvPr/>
        </p:nvSpPr>
        <p:spPr>
          <a:xfrm>
            <a:off x="0" y="433224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4400" rIns="914400" tIns="46800" bIns="46800" anchor="ctr" anchorCtr="1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lobal Strategy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ke W. Pe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4"/>
          <p:cNvSpPr/>
          <p:nvPr/>
        </p:nvSpPr>
        <p:spPr>
          <a:xfrm rot="16200000">
            <a:off x="-105480" y="2320200"/>
            <a:ext cx="213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 Antiqua"/>
              </a:rPr>
              <a:t>c h a p t e 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5"/>
          <p:cNvSpPr/>
          <p:nvPr/>
        </p:nvSpPr>
        <p:spPr>
          <a:xfrm>
            <a:off x="434880" y="456840"/>
            <a:ext cx="10670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61880"/>
                <a:tab algn="r" pos="8454960"/>
                <a:tab algn="l" pos="9067680"/>
                <a:tab algn="l" pos="10578960"/>
              </a:tabLst>
              <a:defRPr b="0" lang="en-US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1880"/>
                <a:tab algn="r" pos="8454960"/>
                <a:tab algn="l" pos="9067680"/>
                <a:tab algn="l" pos="105789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72388934-B666-47F6-BD30-808A33EB8E1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6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7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DF91E90C-8C4E-4E42-B9F7-B446D6FA2F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B25FF2F2-FA20-4EFE-9788-EA40C28085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0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1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AB552184-C950-4B1A-9D2B-D0E961D8FC2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2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3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4F393209-363B-45FE-8FE2-885FC3D09D5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5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79CDC903-9445-4EA6-8C9A-B3A8B52251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6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7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8A90B50D-BC02-4035-B021-D0DDEB9C0F3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3" descr="C:\Users\jdwells\AppData\Local\Microsoft\Windows\Temporary Internet Files\Content.IE5\QWM395O8\MC900437103[1].wmf"/>
          <p:cNvPicPr/>
          <p:nvPr/>
        </p:nvPicPr>
        <p:blipFill>
          <a:blip r:embed="rId1"/>
          <a:stretch/>
        </p:blipFill>
        <p:spPr>
          <a:xfrm>
            <a:off x="3084480" y="0"/>
            <a:ext cx="6097680" cy="447984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4"/>
          <p:cNvSpPr/>
          <p:nvPr/>
        </p:nvSpPr>
        <p:spPr>
          <a:xfrm>
            <a:off x="0" y="6448320"/>
            <a:ext cx="9144000" cy="41904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61880"/>
                <a:tab algn="r" pos="8454960"/>
                <a:tab algn="l" pos="9067680"/>
                <a:tab algn="l" pos="1057896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0" y="0"/>
            <a:ext cx="3124080" cy="4332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0" y="4332240"/>
            <a:ext cx="9144000" cy="21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4400" rIns="914400" tIns="46800" bIns="46800" anchor="ctr" anchorCtr="1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Global Strategy</a:t>
            </a:r>
            <a:br>
              <a:rPr sz="4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ke W. Pe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"/>
          <p:cNvSpPr/>
          <p:nvPr/>
        </p:nvSpPr>
        <p:spPr>
          <a:xfrm>
            <a:off x="22320" y="533520"/>
            <a:ext cx="3124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03030"/>
                </a:solidFill>
                <a:uFillTx/>
                <a:latin typeface="Gill Sans MT"/>
                <a:ea typeface="Calibri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03030"/>
                </a:solidFill>
                <a:latin typeface="Calibri"/>
                <a:ea typeface="Calibri"/>
              </a:rPr>
              <a:t>Growing and Internationalizing the Entrepreneurial Fir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Network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0840" y="1219320"/>
            <a:ext cx="810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ly construct and tap into relationships, connections, and ties that individuals and organizations hav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personal networks into value-adding organization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ing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Needed to overcome liability of newness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tensity of relationships is importa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Networks represent significant resources and opportuniti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ay lead to successful entrepreneurial performanc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entrally located network positions are most helpfu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</a:t>
            </a:r>
            <a:br>
              <a:rPr sz="3200"/>
            </a:br>
            <a:r>
              <a:rPr b="1" i="1" lang="en-US" sz="2800" spc="-1" strike="noStrike">
                <a:solidFill>
                  <a:srgbClr val="800000"/>
                </a:solidFill>
                <a:latin typeface="Book Antiqua"/>
                <a:ea typeface="SimSun"/>
              </a:rPr>
              <a:t>Financing and Governance</a:t>
            </a:r>
            <a:endParaRPr b="1" lang="en-US" sz="28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10840" y="1676520"/>
            <a:ext cx="810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utside investors usually demand collateral or some other assu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dds for survival during crucial early years are significantly correlated with fir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aster a new start-up can reach a certain size, the more likely it will surviv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Entrepreneurs often choose to accept more outside investment in order to reach a large siz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2"/>
          <p:cNvSpPr/>
          <p:nvPr/>
        </p:nvSpPr>
        <p:spPr>
          <a:xfrm>
            <a:off x="293760" y="6400800"/>
            <a:ext cx="833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22360" y="579600"/>
            <a:ext cx="80769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- and Four-Year Survival Rates by Firm Size</a:t>
            </a:r>
            <a:endParaRPr b="1" lang="en-US" sz="24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974000" y="6232680"/>
            <a:ext cx="65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5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44600" y="6205680"/>
            <a:ext cx="620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Adapted from J. Timmons, 1999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 Venture Creatio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p. 33), Boston: Irwin McGraw-Hill, based on US data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6"/>
          <p:cNvSpPr/>
          <p:nvPr/>
        </p:nvSpPr>
        <p:spPr>
          <a:xfrm>
            <a:off x="685800" y="1600200"/>
            <a:ext cx="78487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841680" y="167652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M SIZ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579760" y="1663560"/>
            <a:ext cx="174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CES OF SURVIV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5016960" y="166356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M SIZ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6770880" y="1663560"/>
            <a:ext cx="174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CES OF SURVIV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750240" y="189216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PLOYEE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2807640" y="189216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1 YE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4941000" y="189216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PLOYEE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6998400" y="189216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4 YEA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5"/>
          <p:cNvSpPr/>
          <p:nvPr/>
        </p:nvSpPr>
        <p:spPr>
          <a:xfrm>
            <a:off x="679320" y="213372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1068840" y="21146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-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3110400" y="21146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5259960" y="21146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-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7301520" y="21146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977760" y="23493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-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110400" y="2349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5168520" y="23493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4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7301520" y="2349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977760" y="25779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9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3110400" y="25779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5168520" y="25779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-9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7301520" y="25779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917640" y="28036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-24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3110400" y="2803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5092920" y="28036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-49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7301520" y="2803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4"/>
          <p:cNvSpPr/>
          <p:nvPr/>
        </p:nvSpPr>
        <p:spPr>
          <a:xfrm>
            <a:off x="993600" y="303228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0+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3035160" y="30322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6"/>
          <p:cNvSpPr/>
          <p:nvPr/>
        </p:nvSpPr>
        <p:spPr>
          <a:xfrm>
            <a:off x="4572000" y="1604880"/>
            <a:ext cx="0" cy="174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</a:t>
            </a:r>
            <a:br>
              <a:rPr sz="3200"/>
            </a:br>
            <a:r>
              <a:rPr b="1" i="1" lang="en-US" sz="2800" spc="-1" strike="noStrike">
                <a:solidFill>
                  <a:srgbClr val="800000"/>
                </a:solidFill>
                <a:latin typeface="Book Antiqua"/>
                <a:ea typeface="SimSun"/>
              </a:rPr>
              <a:t>Harvest and Exit</a:t>
            </a:r>
            <a:endParaRPr b="1" lang="en-US" sz="28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0840" y="160020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out” does not necessarily mean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s for entrepreneurial harvest and ex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lling an equity stak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lling the busines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erging with another firm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Going public with an initial public offering (IPO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claring bankruptc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22360" y="579600"/>
            <a:ext cx="80769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 and Disadvantages of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itial Public Offering (IPO)</a:t>
            </a:r>
            <a:endParaRPr b="1" lang="en-US" sz="24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74" name="AutoShape 6"/>
          <p:cNvSpPr/>
          <p:nvPr/>
        </p:nvSpPr>
        <p:spPr>
          <a:xfrm>
            <a:off x="380880" y="1523880"/>
            <a:ext cx="838224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380880" y="1905120"/>
            <a:ext cx="836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20920" y="166356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5245560" y="166356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0"/>
          <p:cNvSpPr/>
          <p:nvPr/>
        </p:nvSpPr>
        <p:spPr>
          <a:xfrm>
            <a:off x="5029200" y="1523880"/>
            <a:ext cx="0" cy="227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528480" y="1981080"/>
            <a:ext cx="20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d financial condi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5253840" y="1981080"/>
            <a:ext cx="27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ject to the whims of financial marke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523080" y="22035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 to more capita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5246280" y="2203560"/>
            <a:ext cx="237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ced to focus on the short ter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523800" y="2425680"/>
            <a:ext cx="24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ersification of shareholder ba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5247000" y="2425680"/>
            <a:ext cx="221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s of entrepreneurial contr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521280" y="2654280"/>
            <a:ext cx="144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ility to cash ou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5249520" y="2654280"/>
            <a:ext cx="31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fiduciary responsibilities for sharehold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524160" y="2882880"/>
            <a:ext cx="265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 and employee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5246640" y="2882880"/>
            <a:ext cx="12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23080" y="31114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hanced corporate repu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5247000" y="3111480"/>
            <a:ext cx="292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mits on management’s freedom of ac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3"/>
          <p:cNvSpPr/>
          <p:nvPr/>
        </p:nvSpPr>
        <p:spPr>
          <a:xfrm>
            <a:off x="522360" y="3336840"/>
            <a:ext cx="28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ater opportunity for future acquisi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4"/>
          <p:cNvSpPr/>
          <p:nvPr/>
        </p:nvSpPr>
        <p:spPr>
          <a:xfrm>
            <a:off x="5246640" y="335268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mands of periodic repor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"/>
          <p:cNvSpPr/>
          <p:nvPr/>
        </p:nvSpPr>
        <p:spPr>
          <a:xfrm>
            <a:off x="6714360" y="64008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5.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Internationalizing the Entrepreneurial Firm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0840" y="160020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Entrepreneurs are challenging myths about internatio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ransaction costs are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trategies for entering foreign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irect exporting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censing or franchising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oreign direct investment (FDI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Internationalizing the Entrepreneurial Firm (cont’d)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10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trategies for staying in domestic mar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direct exporting through domestic - based export intermediari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ecome suppliers of foreign firms doing business in one’s home countr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ecome licensees or franchisees of foreign brand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ecome alliance partners of foreign direct investor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arvest and exit through sell-offs to foreign firm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2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2360" y="579600"/>
            <a:ext cx="80769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tionalization Strategies for Entrepreneurial Firms</a:t>
            </a:r>
            <a:endParaRPr b="1" lang="en-US" sz="24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685800" y="1295280"/>
            <a:ext cx="7696080" cy="221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"/>
          <p:cNvSpPr/>
          <p:nvPr/>
        </p:nvSpPr>
        <p:spPr>
          <a:xfrm>
            <a:off x="685800" y="1663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751320" y="143496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ERING FOREIGN MARKET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4638600" y="143496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YING IN DOMESTIC MARKE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750960" y="166356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 expor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4637880" y="1663560"/>
            <a:ext cx="286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rect exports (through domestic ex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mediarie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750960" y="1968480"/>
            <a:ext cx="164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hising/licens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767160" y="2197080"/>
            <a:ext cx="429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ign direct investment (through green-field wholly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wned subsidiaries, strategic alliances, and/or foreig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quisition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4637160" y="2133720"/>
            <a:ext cx="181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ier of foreign fir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638960" y="2349360"/>
            <a:ext cx="262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hisee/licensee of foreign bra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4639320" y="2577960"/>
            <a:ext cx="289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iance partner of foreign direct investo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4637520" y="2882880"/>
            <a:ext cx="358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vest and exit (though sell-off to and acquisition b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ign entrant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4495680" y="1289160"/>
            <a:ext cx="0" cy="22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"/>
          <p:cNvSpPr/>
          <p:nvPr/>
        </p:nvSpPr>
        <p:spPr>
          <a:xfrm>
            <a:off x="6786000" y="64008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5.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Debates and Extensions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ts versus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low internationalizers versus born global start-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nti-failure biases versus entrepreneur-friendly bankruptc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The Savvy Entrepreneur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s are engines of creative destruc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Insights on entrepreneurship by the three leading perspectives on strategy: Industry, Resource, and Institution view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Four fundamental questions in strategy provide insigh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Outline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Entrepreneurship, entrepreneurs, and entrepreneurial fi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comprehensive model of entrepreneu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ive entrepreneurial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ternationalizing the entrepreneurial fi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bates and exten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 savvy entrepren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3"/>
          <p:cNvSpPr/>
          <p:nvPr/>
        </p:nvSpPr>
        <p:spPr>
          <a:xfrm>
            <a:off x="533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ship, Entrepreneurs, and Entrepreneurial Firms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10840" y="1676160"/>
            <a:ext cx="810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trepreneurship - the identification and exploitation of previously unexplore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trepreneurs - set of individuals who discover, evaluate, and exploi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SimSun"/>
              </a:rPr>
              <a:t>Founders and owners of new businesses or managers of existing firm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ot the exclusive domain of small, young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mall and medium-sized enterprises (SMEs) 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SimSun"/>
              </a:rPr>
              <a:t>95% of all firm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SimSun"/>
              </a:rPr>
              <a:t>Create 50% of total value added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Generate 60-90% of all employme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Only a small number of entrepreneurial firms surviv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2"/>
          <p:cNvSpPr/>
          <p:nvPr/>
        </p:nvSpPr>
        <p:spPr>
          <a:xfrm>
            <a:off x="571680" y="6294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/>
          <p:cNvSpPr/>
          <p:nvPr/>
        </p:nvSpPr>
        <p:spPr>
          <a:xfrm>
            <a:off x="914400" y="304920"/>
            <a:ext cx="7391520" cy="586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2"/>
          <a:stretch/>
        </p:blipFill>
        <p:spPr>
          <a:xfrm>
            <a:off x="2124000" y="514440"/>
            <a:ext cx="5800680" cy="5419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3240" y="2971440"/>
            <a:ext cx="30592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Comprehensive Model of Entrepreneurship</a:t>
            </a:r>
            <a:endParaRPr b="1" lang="en-US" sz="20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6481800" y="64008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5.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A Comprehensive Model of Entrepreneurship Resource Based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10840" y="160020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dustry-base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Intensity of inter-firm rivalr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ewer incumbents, more likely to collude to keep out newcomer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y barriers: capital intensi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Bargaining power of suppliers: how to reduce i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Bargaining power of buyers: how to reduce i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Threat of substitute products/servic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A Comprehensive Model of Entrepreneurship Resource Based (cont’d)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10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-base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resources must create VRIO (value, rare, inimitable, organizationally embedded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stitution-base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Formal institutions govern new ventur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Striking differences in government regulations of start-up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Five Entrepreneurial Strategies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inancing/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Harvest/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sixth strategy, internationalization, will be covered in the nex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Growth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 excitement of growing a new company is oftentimes what attracts entrepreneurs in the firs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ttempt to utilize resources and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vis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dri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leadership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Innovation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n innovation strategy is a specialized form of differen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dvantages of an innov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Creates a more sustainable competitive advantag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974880" indent="-23508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echnological breakthroughs and organizational innovations (new ways of doing 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Owners, managers, and employees at entrepreneurial firms are more innovative and risk-taking than those at large firm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0:38:55Z</dcterms:created>
  <dc:creator>Charlie Cook, University of West Alabama</dc:creator>
  <dc:description/>
  <dc:language>en-US</dc:language>
  <cp:lastModifiedBy>Josh Wells</cp:lastModifiedBy>
  <dcterms:modified xsi:type="dcterms:W3CDTF">2012-10-23T15:44:55Z</dcterms:modified>
  <cp:revision>116</cp:revision>
  <dc:subject>Chapter 5</dc:subject>
  <dc:title>Global Strategy 1e. - Michael Peng</dc:title>
</cp:coreProperties>
</file>